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84C4-B740-46F9-8B13-22EF92390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4344-9FCF-4670-9D3C-F511C5005A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B0B0-AA76-4D8E-9211-286FA65FB9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DFA7-7EA0-4074-B4D9-832ADFF92D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6163-C08F-4FE0-8733-E72AC4B8C4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3D49-88C7-4DB3-939D-CB5F6F50A0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5937-5F39-4E25-95EC-134E092DA8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2638-87CA-456E-9F35-551EC46FFF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7B89-9CE1-4CC0-9BAD-3516551EFE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A0DB-8003-4C1F-B6B0-5D1B1AAF06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2C86-5D85-4992-8EE1-A0909F6B65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4489-2CE1-465F-A640-F51A74C051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A00-B0D6-4D0C-AA34-F0ED0155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3FB3-0D08-4101-A7D9-40E52757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3BA-A849-4389-8F97-79684584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400-8807-4E79-8BFD-26CEA736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50EB-5AEB-4692-B15E-8E3330F5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68B0-6E1B-47A7-9007-FFEC59D4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E639-B18C-470B-A163-2582AB34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98E0-859F-42B5-9EC8-DF65966A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20AE-EC29-442C-B009-A163BC56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BBEF-57E1-4E9A-8BE4-981D939B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EEA6-B4AF-4D14-9FF9-C58C0E84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7FD-570E-40FE-821C-3B6C2AFD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E33B-8D89-4C5A-AAD5-D35CD740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5FD8-2856-4536-8625-283E733F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C558-1765-452A-B8E8-263B6784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2F44-EDE6-433D-83BA-B41D8181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2A21-1AB7-4F18-9270-4B112DFF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966E-294A-4FB0-ACC7-1BFA1EC1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B99-8D5B-4D68-AC2B-3A5E20D8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CA9-A447-4690-AE57-5B3A19E9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FAD-21A3-4B75-8571-08E9C381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460-253F-4B16-96E5-4AB1AF1C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26D-D352-45A5-91CA-CB4A87B7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6E5E-1FE1-4F25-8914-E1F1306C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6020-702C-41FF-A380-CAF668E89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0164-D9AA-419F-9C8D-91151D775B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EARNING STYLES &amp; BILINGUAL PROGRAM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Structured English Immersion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C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ELLs mostly taught in linguistic manner (Pro &amp; C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Language that is highly methodic is ineff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Culturally acceptable element missing from most instructional methods: kits, folders, books, tech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Many children who possess other intelligences label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Learning disab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ADD (Attention Deficit Disord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Underachiev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Strategies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9140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Multi-media can accomplish what teacher cannot, (address all learning sty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Learning style: the natural, habitual, preferred way(s) for an individual to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Linguistic &amp; Logical intellig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Linguistic intelligence</a:t>
            </a: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("word smart"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Logical-mathematical intelligence</a:t>
            </a: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("number/reasoning smart")</a:t>
            </a:r>
            <a:r>
              <a:rPr b="0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Spatial intelligence</a:t>
            </a: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("picture smart")</a:t>
            </a:r>
            <a:r>
              <a:rPr b="0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Bodily-Kinesthetic intelligence</a:t>
            </a: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("body smart")</a:t>
            </a:r>
            <a:r>
              <a:rPr b="0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Musical intelligence</a:t>
            </a: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("music smart")</a:t>
            </a:r>
            <a:r>
              <a:rPr b="0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Interpersonal intelligence</a:t>
            </a: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("people smart")</a:t>
            </a:r>
            <a:r>
              <a:rPr b="0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Intrapersonal intelligence</a:t>
            </a: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("self smart")</a:t>
            </a:r>
            <a:r>
              <a:rPr b="0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Naturalist intelligence</a:t>
            </a:r>
            <a:r>
              <a:rPr b="0" i="1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("nature smart")</a:t>
            </a:r>
            <a:r>
              <a:rPr b="0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Learning styles heavily influenced by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Several dominant learning styles present in a classroom, 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R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- State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Modifying a bilingual program to the compatible learning styles of ten 3</a:t>
            </a:r>
            <a:r>
              <a:rPr b="0" lang="en-US" sz="3200" spc="-1" strike="noStrike" baseline="30000">
                <a:solidFill>
                  <a:srgbClr val="ffffb7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  graders in P.S. X in Queens, NY,  over a grading period, will measurably increase language proficiency in Reading &amp; Wr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b7"/>
                </a:solidFill>
                <a:uFillTx/>
                <a:latin typeface="Arial Black"/>
              </a:rPr>
              <a:t>Bilingual Education 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7720" y="106632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ON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b7"/>
                </a:solidFill>
                <a:latin typeface="Arial"/>
              </a:rPr>
              <a:t>Armstrong, Th., 2000; Jones, M., 2006; Porter, R. 1998; </a:t>
            </a:r>
            <a:r>
              <a:rPr b="0" lang="en-US" sz="2200" spc="-1" strike="noStrike">
                <a:solidFill>
                  <a:srgbClr val="ffffb7"/>
                </a:solidFill>
                <a:latin typeface="Arial"/>
              </a:rPr>
              <a:t>Duigan, P. (n.d.); </a:t>
            </a:r>
            <a:r>
              <a:rPr b="0" i="1" lang="en-US" sz="2200" spc="-1" strike="noStrike">
                <a:solidFill>
                  <a:srgbClr val="ffffb7"/>
                </a:solidFill>
                <a:latin typeface="Arial"/>
              </a:rPr>
              <a:t>Fillmore, L. (2000); Gallagher, J. 1998; Klein, A., 2008; Mays, L., 2008; Porter, R. 1998; Keng-Soon, S. &amp; Yeok-Hwa, N., 1998; Milian, M. &amp; Pearson, V., 2005; Lombardi, J., 2008;</a:t>
            </a:r>
            <a:r>
              <a:rPr b="0" lang="en-US" sz="2200" spc="-1" strike="noStrike">
                <a:solidFill>
                  <a:srgbClr val="ffffb7"/>
                </a:solidFill>
                <a:latin typeface="Arial"/>
              </a:rPr>
              <a:t>Cofresi, N., &amp; Gorman, A., 2004; Fillmore, L., 2000; Gallo, Y., Garcia, M., Pinuelas, L., Youngs, I., 2008; Gallagher, J., 1998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ffb7"/>
                </a:solidFill>
                <a:uFillTx/>
                <a:latin typeface="Arial"/>
              </a:rPr>
              <a:t>PROS</a:t>
            </a:r>
            <a:r>
              <a:rPr b="0" i="1" lang="en-US" sz="2200" spc="-1" strike="noStrike">
                <a:solidFill>
                  <a:srgbClr val="ffffb7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b7"/>
                </a:solidFill>
                <a:latin typeface="Arial"/>
              </a:rPr>
              <a:t>Hadi-Tabassum, 1999; Christian, D., 1996; Genesee, F., 2000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b7"/>
                </a:solidFill>
                <a:latin typeface="Arial"/>
              </a:rPr>
              <a:t>Cummins, J., (n.d.); Krashen, S., 2003; Sherwood, E., 2007; “Linguistic Diversity and Classroom Management”, 2003; </a:t>
            </a:r>
            <a:r>
              <a:rPr b="0" lang="en-US" sz="2200" spc="-1" strike="noStrike">
                <a:solidFill>
                  <a:srgbClr val="ffffb7"/>
                </a:solidFill>
                <a:latin typeface="Arial"/>
              </a:rPr>
              <a:t>Cummins, J., 2000</a:t>
            </a:r>
            <a:r>
              <a:rPr b="0" i="1" lang="en-US" sz="2200" spc="-1" strike="noStrike">
                <a:solidFill>
                  <a:srgbClr val="ffffb7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Bilingual education or English instruction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solidFill>
            <a:srgbClr val="161616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b7"/>
                </a:solidFill>
                <a:uFillTx/>
                <a:latin typeface="Arial"/>
              </a:rPr>
              <a:t>http://www.youtube.com/watch?v=VwqhL1Hsg7E&amp;feature=re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"/>
              </a:rPr>
              <a:t>Firefighter boss required to speak Spanish or get demote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"/>
              </a:rPr>
              <a:t> </a:t>
            </a:r>
            <a:r>
              <a:rPr b="0" lang="en-US" sz="2000" spc="-1" strike="noStrike" u="sng">
                <a:solidFill>
                  <a:srgbClr val="ffffb7"/>
                </a:solidFill>
                <a:uFillTx/>
                <a:latin typeface="Arial"/>
              </a:rPr>
              <a:t>http://www.youtube.com/watch?v=V_dMr5haTbM&amp;feature=re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"/>
              </a:rPr>
              <a:t>Oregon seeking official English legislation; 28 states agree pro official English. 85% of nations have an official government. language; 70% of Americans are pro making English official language of federal government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"/>
              </a:rPr>
              <a:t> </a:t>
            </a:r>
            <a:r>
              <a:rPr b="0" lang="en-US" sz="2000" spc="-1" strike="noStrike" u="sng">
                <a:solidFill>
                  <a:srgbClr val="ffffb7"/>
                </a:solidFill>
                <a:uFillTx/>
                <a:latin typeface="Arial"/>
              </a:rPr>
              <a:t>http://www.youtube.com/watch?v=mBiZtU4FLEQ&amp;feature=re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"/>
              </a:rPr>
              <a:t>Case against bilingual edu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"/>
              </a:rPr>
              <a:t> </a:t>
            </a:r>
            <a:r>
              <a:rPr b="0" lang="en-US" sz="2000" spc="-1" strike="noStrike" u="sng">
                <a:solidFill>
                  <a:srgbClr val="ffffb7"/>
                </a:solidFill>
                <a:uFillTx/>
                <a:latin typeface="Arial"/>
              </a:rPr>
              <a:t>http://www.youtube.com/watch?v=83THWaW82XY&amp;feature=re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Arial"/>
              </a:rPr>
              <a:t>Standardized tests in Spanish versus English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Methods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nt letters to administrators, (principal, assistant princip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al consent 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er to student explaining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07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Adams, M., Jones, K., M. (2006). Unmasking the Myths of Structured Englis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Immersion: Why We Still Need Bilingual Educators, Native Language Instruction, and Incorporation of Home Culture. Radical Teacher, 75, 16-2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Armstrong, Th. ((2000). Multiple Intelligences.  Retrieved from: www.ThomasArmstrong.co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b7"/>
                </a:solidFill>
                <a:latin typeface="Arial"/>
                <a:ea typeface="新細明體"/>
              </a:rPr>
              <a:t>Chamot, A., &amp; El-Dinary, P. (1999).  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Children’s learning strategies in language </a:t>
            </a:r>
            <a:r>
              <a:rPr b="1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immersion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 classrooms.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The Modern Language Journal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,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83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(3), 319-38. Retrieved April 20, 2010, from Education Full Text database.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Christian, D. (1996). Two-Way Immersion Education: Students Learning Through Tw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Languages.  The Modern Language Journal, 80, 66-7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Cofresi, N., &amp; Gorman, A. (2004). Testing and Assessment Issues With Spanish-English Bilingual Latinos.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</a:rPr>
              <a:t>Journal of Counseling and Development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</a:rPr>
              <a:t>82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(1), 99-106. Retrieved from Education Full Text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Cummins, J. (2000). Bilingual Children’s Mother Tongue: Why Is It Important for Education? Retrieved from Education Full Text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007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Duigan, P. (n.d.). Bilingual Education; A Critique.  Retrieved from: http://www.hoover.org/publications/he/2896386.html?show=ess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Gallo, Y., Garcia, M., Pinuelas, L., Youngs, I. (2008).  Crisis in the Southwest. Retrieved from Education Full Text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Escamilla, K. (2006). Semilingualism Applied to the Literacy Behaviors of Spanish-Speaking Emerging Bilinguals: Bi-illiteracy or Emerging Biliteracy?.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Teachers College Record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,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108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(11), 2329-53. Retrieved April 20, 2010, from Education Full Text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Fillmore, L. (2000). Loss of family languages: should educators be concerned?.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</a:rPr>
              <a:t>Theory into Practice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</a:rPr>
              <a:t>39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(4), 203-10. Retrieved from Education Full Text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Gallagher, J. (1998). Multiculturalism at a crossroads.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Education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</a:rPr>
              <a:t> Digest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</a:rPr>
              <a:t>63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(8), 23-8. Retrieved from Education Full Text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Genesee, F., Cloud. N.  (1998).  Multilingualism is basic.  Educational Leadership. Retrieved from Education Full Text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Hadi-Tabassum, S. (1999).  Assessing Students’ Attitudes &amp; Achievements in a Multicultural &amp; Multilingual Science Classroom.  Multicultural Education, no7 (2), 15-20. Retrieved from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</a:rPr>
              <a:t>http://www2.ed.gov/about/offices/list/ocr/ell/edlite-glossar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Keng-Soon, S, Yeok-Hwa, N.  (1998). Effective English as a Second Language Instruction With Interactive Multimedia: The MCALL Project.  Journal of Educational Multimedia and Hypermedia, no7(1), 71-8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Krashen, S. (2003). Why Bilingual Education? Retrieved from http://ericae.net/ericdb/ED403101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Linguistic Diversity and Classroom Management”, (2003). Theory into Practice no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Lonbardi, J. (2008). Beyond Learning Styles: Brain-Based Research and English Language Learners. The Clearing House, no81(5), 219-2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120" y="457200"/>
            <a:ext cx="8007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McGlinn, J., &amp; Parrish, A. (2002). Accelerating </a:t>
            </a:r>
            <a:r>
              <a:rPr b="1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ESL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 Students' Reading Progress With Accelerated Reader.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Reading Horizons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,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42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(3), 175-89. Retrieved April 20, 2010, from Education Full Text datab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Milian, M., Pearson, V. (2005).  Students with Visual Impairments in a Dual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language Program: A Case Study. Journal of Visual Impairment &amp; Blindness, no99 (11), 715-20. Retrieved from Education Full Text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Porter, Pedalino, R. (1998). Twisted Tongues: The Failure of Bilingual Education. READ Institute. Retrieved from http://www.gwu.edu/~ccps/pop_billing.htm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Part IV: Glossary. Retrieved from http://www2.ed.gov/about/offices/list/ocr/ell/edlite-glossar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Serna, C. (2009). Autores Bilingües/Bilingual Authors: Writing within Dual Cultural and Linguistic Repertoires.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Education (Chula Vista, Calif.)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, </a:t>
            </a:r>
            <a:r>
              <a:rPr b="0" i="1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130</a:t>
            </a:r>
            <a:r>
              <a:rPr b="0" lang="en-US" sz="1800" spc="-1" strike="noStrike">
                <a:solidFill>
                  <a:srgbClr val="ffffb7"/>
                </a:solidFill>
                <a:latin typeface="Arial"/>
                <a:ea typeface="新細明體"/>
              </a:rPr>
              <a:t>(1), 78-95. Retrieved April 20, 2010, from Education Full Text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b7"/>
                </a:solidFill>
                <a:latin typeface="Arial"/>
              </a:rPr>
              <a:t>Sherwood, E., 2007; Education in a Multicultural Society; Retrieved from: http://www.educationupdate.com/archives/2007/NOV/html/spot-profoefeli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Bodoni MT"/>
              </a:rPr>
              <a:t>INTRODU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b7"/>
                </a:solidFill>
                <a:uFillTx/>
                <a:latin typeface="Arial"/>
              </a:rPr>
              <a:t>Table of 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Statement of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Review of Lit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Statement of Hypo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1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38088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b7"/>
                </a:solidFill>
                <a:uFillTx/>
                <a:latin typeface="Candara"/>
              </a:rPr>
              <a:t>Statement of the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Candara"/>
              </a:rPr>
              <a:t>Pedagogical success of the </a:t>
            </a:r>
            <a:r>
              <a:rPr b="1" lang="en-US" sz="3200" spc="-1" strike="noStrike">
                <a:solidFill>
                  <a:srgbClr val="ffffb7"/>
                </a:solidFill>
                <a:latin typeface="Candara"/>
              </a:rPr>
              <a:t>Dual-Language</a:t>
            </a:r>
            <a:r>
              <a:rPr b="0" lang="en-US" sz="3200" spc="-1" strike="noStrike">
                <a:solidFill>
                  <a:srgbClr val="ffffb7"/>
                </a:solidFill>
                <a:latin typeface="Candara"/>
              </a:rPr>
              <a:t> and </a:t>
            </a:r>
            <a:r>
              <a:rPr b="1" lang="en-US" sz="3200" spc="-1" strike="noStrike">
                <a:solidFill>
                  <a:srgbClr val="ffffb7"/>
                </a:solidFill>
                <a:latin typeface="Candara"/>
              </a:rPr>
              <a:t>Immersion</a:t>
            </a:r>
            <a:r>
              <a:rPr b="0" lang="en-US" sz="3200" spc="-1" strike="noStrike">
                <a:solidFill>
                  <a:srgbClr val="ffffb7"/>
                </a:solidFill>
                <a:latin typeface="Candara"/>
              </a:rPr>
              <a:t> bilingual programs is dependant upon how well the programs can be </a:t>
            </a:r>
            <a:r>
              <a:rPr b="0" i="1" lang="en-US" sz="3200" spc="-1" strike="noStrike">
                <a:solidFill>
                  <a:srgbClr val="ffffb7"/>
                </a:solidFill>
                <a:latin typeface="Candara"/>
              </a:rPr>
              <a:t>assimilated</a:t>
            </a:r>
            <a:r>
              <a:rPr b="0" lang="en-US" sz="3200" spc="-1" strike="noStrike">
                <a:solidFill>
                  <a:srgbClr val="ffffb7"/>
                </a:solidFill>
                <a:latin typeface="Candara"/>
              </a:rPr>
              <a:t> by the </a:t>
            </a:r>
            <a:r>
              <a:rPr b="0" i="1" lang="en-US" sz="3200" spc="-1" strike="noStrike">
                <a:solidFill>
                  <a:srgbClr val="ffffb7"/>
                </a:solidFill>
                <a:latin typeface="Candara"/>
              </a:rPr>
              <a:t>learner</a:t>
            </a:r>
            <a:r>
              <a:rPr b="0" lang="en-US" sz="3200" spc="-1" strike="noStrike">
                <a:solidFill>
                  <a:srgbClr val="ffffb7"/>
                </a:solidFill>
                <a:latin typeface="Candar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Candara"/>
              </a:rPr>
              <a:t>Assimilation occurs via a student’s </a:t>
            </a:r>
            <a:r>
              <a:rPr b="0" i="1" lang="en-US" sz="3200" spc="-1" strike="noStrike">
                <a:solidFill>
                  <a:srgbClr val="ffffb7"/>
                </a:solidFill>
                <a:latin typeface="Candara"/>
              </a:rPr>
              <a:t>learning</a:t>
            </a:r>
            <a:r>
              <a:rPr b="0" lang="en-US" sz="3200" spc="-1" strike="noStrike">
                <a:solidFill>
                  <a:srgbClr val="ffffb7"/>
                </a:solidFill>
                <a:latin typeface="Candara"/>
              </a:rPr>
              <a:t> </a:t>
            </a:r>
            <a:r>
              <a:rPr b="0" i="1" lang="en-US" sz="3200" spc="-1" strike="noStrike">
                <a:solidFill>
                  <a:srgbClr val="ffffb7"/>
                </a:solidFill>
                <a:latin typeface="Candara"/>
              </a:rPr>
              <a:t>style</a:t>
            </a:r>
            <a:r>
              <a:rPr b="0" lang="en-US" sz="3200" spc="-1" strike="noStrike">
                <a:solidFill>
                  <a:srgbClr val="ffffb7"/>
                </a:solidFill>
                <a:latin typeface="Candara"/>
              </a:rPr>
              <a:t>. How can D-L and Immersion be modified so that they appeal to all learner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Candara"/>
              </a:rPr>
              <a:t>This inquiry is significant, since student success- and conversely, failure- is dependant upon linking the correct style to compatible lear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Review of Literature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Bilingual Programs (Dual Language &amp; Immersion)- </a:t>
            </a:r>
            <a:r>
              <a:rPr b="1" i="1" lang="en-US" sz="40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CONS</a:t>
            </a:r>
            <a:r>
              <a:rPr b="0" i="1" lang="en-US" sz="40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b7"/>
                </a:solidFill>
                <a:latin typeface="Arial"/>
              </a:rPr>
              <a:t>The first duty of schools is to teach non-English speaking children English as quickly as possible, not to maintain the 327 native languages in public school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b7"/>
                </a:solidFill>
                <a:latin typeface="Arial"/>
              </a:rPr>
              <a:t>Despite 30 years and billions in federal subsidies, bilingual materials do not abound; Bilingual education segregates childre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b7"/>
                </a:solidFill>
                <a:latin typeface="Arial"/>
              </a:rPr>
              <a:t>Parents prefer ESL, and resist bilingual instructio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b7"/>
                </a:solidFill>
                <a:latin typeface="Arial"/>
              </a:rPr>
              <a:t>Knowledge of who one is and comes from, responsibility to self, family, community, cannot be taught at school- it is the job of paren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b7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Bilingual Programs- cons: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007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From 1952 to 1972 funding rose from $8.4 billion to $67.5 billion; educational employees tripled from 1,884,000 to 5,646,000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00000"/>
                </a:solidFill>
                <a:latin typeface="Arabic Typesetting"/>
                <a:ea typeface="Arabic Typesetting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“</a:t>
            </a:r>
            <a:r>
              <a:rPr b="1" i="1" lang="en-US" sz="4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If money alone could buy excellence, the United States should have entered a golden age of public instruction instead of seeing declining standards in many schools.”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Review of Literature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520" y="609480"/>
            <a:ext cx="8464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abic Typesetting"/>
                <a:ea typeface="Arabic Typesetting"/>
              </a:rPr>
              <a:t>Bilingual Programs- pros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anguage inextricably tied to identity and self worth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 a global economy, L2, (non-native language) is less of an advantage and more of a necessity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ulticultural programs should seek to establish better connection with pare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ilingual programs not meant to last beyond three years even though acquisition of CALPS requires 6 year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b7"/>
                </a:solidFill>
                <a:latin typeface="Arial"/>
              </a:rPr>
              <a:t>High self-esteem &amp; positive attitude for other cultu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Dual-Language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Pro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2001"/>
              </a:spcBef>
              <a:buClr>
                <a:srgbClr val="99ff66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Jim Cummins, University of Toronto:  “Developmental interdependence Hypothesis”; “Threshold Hypothesi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ctr">
              <a:lnSpc>
                <a:spcPct val="100000"/>
              </a:lnSpc>
              <a:spcBef>
                <a:spcPts val="2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Rationale</a:t>
            </a:r>
            <a:r>
              <a:rPr b="0" lang="en-US" sz="3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: </a:t>
            </a:r>
            <a:r>
              <a:rPr b="0" i="1" lang="en-US" sz="3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Second language acquisition is dependant on mastery of native language skills: First set of skills in L1 easily transferred to L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Dual-Language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7720" y="152388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C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Defies “time-on-task” princi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The more time spent on a subject, the more that subject will be lea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Contrary to research demonstrating that language is best acquired early on in lif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If student learning in L1 most of day for several years, illogical to conclude that will be fluent in L2 when they are ol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Structured English Immersion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1905120"/>
            <a:ext cx="8007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b7"/>
                </a:solidFill>
                <a:uFillTx/>
                <a:latin typeface="Arabic Typesetting"/>
                <a:ea typeface="Arabic Typesetting"/>
              </a:rPr>
              <a:t>Pro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Mainstream classro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Teachers specially trained in bilingual education or ESL tra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Visual aids highly recommend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Group/paired work highly recommend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Arabic Typesetting"/>
                <a:ea typeface="Arabic Typesetting"/>
              </a:rPr>
              <a:t>Talking among classmates should not necessarily be seen as thr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5:39:49Z</dcterms:created>
  <dc:creator>ssgarcia</dc:creator>
  <dc:description/>
  <dc:language>en-US</dc:language>
  <cp:lastModifiedBy>Sara Garcia</cp:lastModifiedBy>
  <dcterms:modified xsi:type="dcterms:W3CDTF">2010-05-18T20:10:03Z</dcterms:modified>
  <cp:revision>16</cp:revision>
  <dc:subject/>
  <dc:title>TITL PAGE</dc:title>
</cp:coreProperties>
</file>